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542B-8950-4723-AAF4-1474D5F4C8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4050-4B5B-4BBB-80A2-25CDF10A05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ED9-4027-406F-B933-57F352FA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448-D768-40D5-9F5C-5A7BD55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5C9-A782-4A33-8DB7-02550A8E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603-9F14-4694-BEF1-A0AC243E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FC82-B717-4B65-AB75-4486A4DC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1006-E3D3-4D7A-AC57-B62FA1F8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E7D3-38F4-4177-A216-31849052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D7AF-4735-4FEE-A631-D11E47F1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ECE-1B66-4EB2-B441-12E3CB22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B8C8-60FF-4B8E-A09B-EEC69681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3E13-0CAD-480E-A4D9-65334B6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8D8-ADC9-43FA-AF04-7E3F83E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B938-7DF0-4B35-91D8-D24DC43A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6109-1E6D-4A25-8478-7394660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D66-D284-4231-962A-ED1AEA7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3900-0B75-4979-959A-C16A6A07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A1F5-E14F-406C-86ED-CEA7BD4C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20B8-73BA-4B48-AF80-5A0BB16A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1672-0A9A-433C-A393-C4F4A52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CD4C-2D8B-4A3E-BAE4-73B56284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0876-131F-4795-859D-097BF3C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B9E4-565B-445D-8E64-F4ECE882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AD1-F6B1-49D8-B030-7BD303C8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8941-BD57-47BB-8DDA-7BF41EE0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444C-9568-4518-BFE3-DECC3C2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B18A-E5BB-4258-ADC9-C573459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B97E-18D3-476A-8E98-9FD7B5B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C8A1-CD16-4D08-AB91-6CDEB02D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62DA-CC1C-4E8E-BC8B-749BDF54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6DCF-35DE-4984-9D10-42127694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CA495-D417-4401-BC41-E02CAE56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8443-3B4A-457B-A8C9-E68A40B4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4F0A-6623-4992-8F64-7BBB371C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B85-F8B2-46CC-9239-90ABDE88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E9CC-B40B-46C4-90E5-02F95263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C051-75C0-406F-8339-0834FB6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61FA-3D70-4A04-856C-7778715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6FAC-EA1D-43FB-9607-66C8B9A3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42DD-A56A-4DE8-9B41-5524B67C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7612-AAC5-4A9E-981D-2D9F8C2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47E6-3BFC-44B8-89BF-2DB13765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2AB9-7CF9-4665-9E0D-F327356B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44D7-AD5D-44DD-8657-4D8113D7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5774-AFC7-4B7D-9DB6-8667DE54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0EA-E287-48DE-B6E9-5E8958DF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BE7A-9176-4E67-95A7-E400FEAE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AA6B-B70D-4705-9EB7-38A03EA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B02D-621F-483D-BAF9-9F0750A9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B05AF-2A34-4F68-A1A7-D7611327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74D4-4607-414C-99B5-A29E428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C3D2-A48B-480A-870F-4C90F326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0BD6B-F745-4C86-B6E9-1126D68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BA0D-5B52-40C2-9BAA-13C466E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1405-3FA8-49D6-98D6-6EAE5D01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2C92-7B5E-497A-B519-0A4E4313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C27-7847-4A08-AA2C-14588B36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D6FF-1559-4500-901F-C42C2131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5712-4C7B-46EA-8AEF-831F5689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8DECB-E3CD-43C9-8C3A-12148F14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7E6E-BFA8-436D-85FC-BCF2117C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826D-E978-447E-BBF0-988D1756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4C8C3-DE4D-4321-B302-DE1E1550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AEBA9-ADA9-4BA1-9C76-0D633AA5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9DBC-7823-420A-AFC8-A88F9AB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835F0-05AE-456A-83F0-ECF28B7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AC84-9F90-48DB-BA7C-CE664BD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683-6B79-49C6-928A-874BB52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9980C-9D4F-4C16-8D57-1846F927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03B98-453D-4633-8065-D542F41F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B787-6E63-446F-840B-F53253C3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C4C-80B0-49FD-8791-49202A2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1F6-1DBD-4CDB-82F2-91701F0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B24E-8D5B-459F-80BA-72EE258DF7C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A9C5-232E-4ABC-8EE2-06A9658B734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9A1-425B-4E69-84D4-4FBC7C5CB7A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66A-0E71-4D1D-8CAF-9D5CB5941BC9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675-FB0C-4512-BE73-5912A0C90E8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4EE-D4FB-4368-A3E6-D5A71F9D60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42AA-8B1D-43BD-8358-F56E530865C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A2C9-AB3A-4FDC-8427-DAF263FFC7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0AB-A55D-4418-8068-739711A0508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48EC-19C8-4863-9F5A-53F9B16B23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17D0-3A54-4136-ABD1-55BA424E335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A50-4294-4903-9645-4CC39C675A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73" name="Título 1"/>
          <p:cNvSpPr/>
          <p:nvPr/>
        </p:nvSpPr>
        <p:spPr>
          <a:xfrm>
            <a:off x="627120" y="1341360"/>
            <a:ext cx="109411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CRÉDITO CONSIG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 – DF, setembr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75" name="Título 1"/>
          <p:cNvSpPr/>
          <p:nvPr/>
        </p:nvSpPr>
        <p:spPr>
          <a:xfrm>
            <a:off x="334800" y="701640"/>
            <a:ext cx="11247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xa Selic, Taxa de Empréstimo Consignado e Cartão de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m 1" descr=""/>
          <p:cNvPicPr/>
          <p:nvPr/>
        </p:nvPicPr>
        <p:blipFill>
          <a:blip r:embed="rId2"/>
          <a:stretch/>
        </p:blipFill>
        <p:spPr>
          <a:xfrm>
            <a:off x="334800" y="1549440"/>
            <a:ext cx="11449080" cy="4956120"/>
          </a:xfrm>
          <a:prstGeom prst="rect">
            <a:avLst/>
          </a:prstGeom>
          <a:ln w="0">
            <a:noFill/>
          </a:ln>
        </p:spPr>
      </p:pic>
      <p:sp>
        <p:nvSpPr>
          <p:cNvPr id="277" name="Retângulo 2"/>
          <p:cNvSpPr/>
          <p:nvPr/>
        </p:nvSpPr>
        <p:spPr>
          <a:xfrm>
            <a:off x="334800" y="1055520"/>
            <a:ext cx="11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De acordo com a ata do COPOM, a taxa SELIC deverá fechar o ano de 2017 em 7,25%, com previsão de chegar a 7,0%, no início de 201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tângulo 6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280" name="Imagem 1" descr=""/>
          <p:cNvPicPr/>
          <p:nvPr/>
        </p:nvPicPr>
        <p:blipFill>
          <a:blip r:embed="rId2"/>
          <a:stretch/>
        </p:blipFill>
        <p:spPr>
          <a:xfrm>
            <a:off x="334800" y="2205000"/>
            <a:ext cx="11449080" cy="4392720"/>
          </a:xfrm>
          <a:prstGeom prst="rect">
            <a:avLst/>
          </a:prstGeom>
          <a:ln w="0">
            <a:noFill/>
          </a:ln>
        </p:spPr>
      </p:pic>
      <p:sp>
        <p:nvSpPr>
          <p:cNvPr id="281" name="Retângulo 3"/>
          <p:cNvSpPr/>
          <p:nvPr/>
        </p:nvSpPr>
        <p:spPr>
          <a:xfrm>
            <a:off x="334800" y="657360"/>
            <a:ext cx="112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Acumulado das Operações de Crédito realizadas por Instituições Financeiras com Aposentados e Pensionistas do INSS – Junho de 2015 a maio de 2017 – Valor da Operação em Milhares Cor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tângulo 4"/>
          <p:cNvSpPr/>
          <p:nvPr/>
        </p:nvSpPr>
        <p:spPr>
          <a:xfrm>
            <a:off x="407880" y="658188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tângulo 2"/>
          <p:cNvSpPr/>
          <p:nvPr/>
        </p:nvSpPr>
        <p:spPr>
          <a:xfrm>
            <a:off x="365040" y="1185840"/>
            <a:ext cx="1123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É importante destacar que, apesar das oscilações observadas na Selic, verifica-se desde novembro de 2016 uma tendência de queda nessa taxa e esse é um dos fatores, juntamente com o baixíssimo risco que essa modalidade de empréstimo oferece às instituições bancárias, para reduzir o teto dos empréstimos consignados do atual patam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334800" y="723960"/>
            <a:ext cx="108014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Carteira Consignado Por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314280" y="2066760"/>
            <a:ext cx="11017440" cy="4537080"/>
          </a:xfrm>
          <a:prstGeom prst="rect">
            <a:avLst/>
          </a:prstGeom>
          <a:ln w="0">
            <a:noFill/>
          </a:ln>
        </p:spPr>
      </p:pic>
      <p:sp>
        <p:nvSpPr>
          <p:cNvPr id="286" name="Retângulo 12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ângulo 3"/>
          <p:cNvSpPr/>
          <p:nvPr/>
        </p:nvSpPr>
        <p:spPr>
          <a:xfrm>
            <a:off x="314280" y="1052640"/>
            <a:ext cx="1118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Percebe-se um aumento nos pedidos de portabilidade em todas as modalidades e a explicação provável são os cortes da Selic verificados recentemente, ou seja, com a redução da SELIC, ocorre diminuição nos custos de captação de emprést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89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Quantidade de empréstimos consignados averbados, por aposentados por invalidez, em 2017 (janeiro a agost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Imagem 2" descr=""/>
          <p:cNvPicPr/>
          <p:nvPr/>
        </p:nvPicPr>
        <p:blipFill>
          <a:blip r:embed="rId2"/>
          <a:stretch/>
        </p:blipFill>
        <p:spPr>
          <a:xfrm>
            <a:off x="1055520" y="2652840"/>
            <a:ext cx="9361800" cy="3627360"/>
          </a:xfrm>
          <a:prstGeom prst="rect">
            <a:avLst/>
          </a:prstGeom>
          <a:ln w="0">
            <a:noFill/>
          </a:ln>
        </p:spPr>
      </p:pic>
      <p:sp>
        <p:nvSpPr>
          <p:cNvPr id="291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ângulo 1"/>
          <p:cNvSpPr/>
          <p:nvPr/>
        </p:nvSpPr>
        <p:spPr>
          <a:xfrm>
            <a:off x="407880" y="1413000"/>
            <a:ext cx="1130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a66ac"/>
                </a:solidFill>
                <a:latin typeface="Arial"/>
                <a:ea typeface="Times New Roman"/>
              </a:rPr>
              <a:t>Analisando os dados de consignados realizados por aposentados por invalidez, percebe-se que mais de 60% desses empréstimos são destinados a pessoas com 60 anos ou mais, e estes não estão comtemplados na revisão dos benefíci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4" name="Título 1"/>
          <p:cNvSpPr/>
          <p:nvPr/>
        </p:nvSpPr>
        <p:spPr>
          <a:xfrm>
            <a:off x="334800" y="765000"/>
            <a:ext cx="11522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BENEFICIÁRIOS DAS ESPÉCIES 32 E 92 COM MENOS DE 60 ANOS NA MACIÇA DE AGOSTO DE 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2" descr=""/>
          <p:cNvPicPr/>
          <p:nvPr/>
        </p:nvPicPr>
        <p:blipFill>
          <a:blip r:embed="rId2"/>
          <a:stretch/>
        </p:blipFill>
        <p:spPr>
          <a:xfrm>
            <a:off x="473040" y="1484280"/>
            <a:ext cx="11246040" cy="4392720"/>
          </a:xfrm>
          <a:prstGeom prst="rect">
            <a:avLst/>
          </a:prstGeom>
          <a:ln w="0">
            <a:noFill/>
          </a:ln>
        </p:spPr>
      </p:pic>
      <p:sp>
        <p:nvSpPr>
          <p:cNvPr id="296" name="Retângulo 4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8" name="Título 1"/>
          <p:cNvSpPr/>
          <p:nvPr/>
        </p:nvSpPr>
        <p:spPr>
          <a:xfrm>
            <a:off x="334800" y="701640"/>
            <a:ext cx="11247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ATOS ATIVOS ATÉ PRIMEIRA SEMANA DE SETEMBRO/2017 E CONTRATOS REALIZADOS POR APOSENTADOS POR INVALIDEZ, COM IDADE ABAIXO DE 60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6" descr=""/>
          <p:cNvPicPr/>
          <p:nvPr/>
        </p:nvPicPr>
        <p:blipFill>
          <a:blip r:embed="rId2"/>
          <a:stretch/>
        </p:blipFill>
        <p:spPr>
          <a:xfrm>
            <a:off x="1055520" y="1587600"/>
            <a:ext cx="10080720" cy="4721040"/>
          </a:xfrm>
          <a:prstGeom prst="rect">
            <a:avLst/>
          </a:prstGeom>
          <a:ln w="0">
            <a:noFill/>
          </a:ln>
        </p:spPr>
      </p:pic>
      <p:sp>
        <p:nvSpPr>
          <p:cNvPr id="300" name="Retângulo 8"/>
          <p:cNvSpPr/>
          <p:nvPr/>
        </p:nvSpPr>
        <p:spPr>
          <a:xfrm>
            <a:off x="407880" y="6505560"/>
            <a:ext cx="22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IN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302" name="Retângulo 2"/>
          <p:cNvSpPr/>
          <p:nvPr/>
        </p:nvSpPr>
        <p:spPr>
          <a:xfrm>
            <a:off x="334800" y="765000"/>
            <a:ext cx="10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3"/>
          <p:cNvSpPr/>
          <p:nvPr/>
        </p:nvSpPr>
        <p:spPr>
          <a:xfrm>
            <a:off x="479520" y="1268280"/>
            <a:ext cx="10585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 o objetivo de combater fraudes, evitar endividamento excessivo e disciplinar a utilização do cartão de crédito, o INSS estabeleceu, em maio de 2008, novas regras de utilização dos empréstimos consignados. As principais medidas foram: a proibição às instituições de operarem com beneficiários de outros estados; obrigatoriedade de crédito na conta em que o benefício é recebido; limite de crédito no cartão passa de três para duas vezes o valor do benefício; proibição às instituições de oferecer financiamento pelo plano de crédito consignado com prazo de car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 determinações de ajuste procedidas pelo então MPS nesse programa de crédito têm gerado resultados positivos. Desde a eliminação da TAC, passando por várias reduções de teto de juros, até as últimas medidas para garantir maior segurança ao emprés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 que diz respeito à possibilidade de empréstimos por meio do cartão benefício, o INSS já está desenvolvendo um sistema para Empréstimos Consignados Online – ECO que deverá contemplar essa possib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pic>
        <p:nvPicPr>
          <p:cNvPr id="305" name="Imagem 1" descr=""/>
          <p:cNvPicPr/>
          <p:nvPr/>
        </p:nvPicPr>
        <p:blipFill>
          <a:blip r:embed="rId2"/>
          <a:stretch/>
        </p:blipFill>
        <p:spPr>
          <a:xfrm>
            <a:off x="738360" y="2637000"/>
            <a:ext cx="10440720" cy="3528720"/>
          </a:xfrm>
          <a:prstGeom prst="rect">
            <a:avLst/>
          </a:prstGeom>
          <a:ln w="0">
            <a:noFill/>
          </a:ln>
        </p:spPr>
      </p:pic>
      <p:sp>
        <p:nvSpPr>
          <p:cNvPr id="306" name="Retângulo 2"/>
          <p:cNvSpPr/>
          <p:nvPr/>
        </p:nvSpPr>
        <p:spPr>
          <a:xfrm>
            <a:off x="407880" y="1282680"/>
            <a:ext cx="108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4a66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a66ac"/>
                </a:solidFill>
                <a:latin typeface="Arial"/>
                <a:ea typeface="Times New Roman"/>
              </a:rPr>
              <a:t>Em relação à solicitação de readequação da taxa atual de juros, a sugestão é que a taxa de empréstimos consignados passe para 2,08%, e do cartão de crédito para 3,0%, pelos motivos exp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7"/>
          <p:cNvSpPr/>
          <p:nvPr/>
        </p:nvSpPr>
        <p:spPr>
          <a:xfrm>
            <a:off x="334800" y="69228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ÇÕES                                                                       02/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9-27T15:34:11Z</dcterms:modified>
  <cp:revision>391</cp:revision>
  <dc:subject/>
  <dc:title>Demografia</dc:title>
</cp:coreProperties>
</file>